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EDC-0982-4845-99AB-061B475D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84F-0F74-4FBF-BE53-A8B08BBD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7B9-553B-4AD7-BBF5-A65E57DE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220-7B31-442B-AD1D-6CF705EB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D8A-F272-4F91-B1B3-E93D65DB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95B-E6BB-4F43-B933-D6AEB31A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02E-EBAC-4277-86C4-687CB882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A52-5FE8-4FB3-9A23-5F9F1840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9AF-969B-436F-9B58-88200AEC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33DF-894F-425D-B0BA-20A4B260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19E-F02B-4E5E-A194-519DB7AB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2E8-2DE4-416A-BC13-59D50B0D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9641-99DB-45E3-B316-F03CE1236E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package" Target="../embeddings/oleObject1.docx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World War 2</a:t>
            </a:r>
            <a:br>
              <a:rPr sz="4400"/>
            </a:b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Data Chart Projec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3429000"/>
            <a:ext cx="47242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Italy: Axi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0" y="16765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: Benito Mussol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: Fas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ded: Albania, Greece, Ethiop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ded by: Germany 194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erated’ by: Allied Troops 19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157500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480440" y="228600"/>
            <a:ext cx="126972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533520" y="4800600"/>
          <a:ext cx="2361960" cy="1665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800600"/>
                    <a:ext cx="236196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Japan:  Axi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 = Prime Minister Toj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mperor Hirohito was a ineffective Figurehe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ded or Controlled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na, Manchuria, Thailand, Malays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led Allied Fo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German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ies they Inva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ia : 193_  Liberated: 194_ by USSR led All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3:34:39Z</dcterms:created>
  <dc:creator>Tamera Detrick-Posthumus</dc:creator>
  <dc:description/>
  <dc:language>en-US</dc:language>
  <cp:lastModifiedBy>Tamera Detrick-Posthumus</cp:lastModifiedBy>
  <dcterms:modified xsi:type="dcterms:W3CDTF">2009-02-16T17:35:58Z</dcterms:modified>
  <cp:revision>6</cp:revision>
  <dc:subject/>
  <dc:title>World War 2 Data Chart Project</dc:title>
</cp:coreProperties>
</file>